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30EA-8389-496A-A1F6-F380E906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192-3204-4252-9A6B-75779810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9B1-E853-4104-859F-96259311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E5F-A184-4EFA-AA11-81EB692B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4B2-9101-4C39-866B-A3ADE4B5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7C9-CB95-47DA-BF7C-110716CC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C74-995B-45CF-983E-D38D650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6E8-ECC5-4C62-B189-03752036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62B-C96A-444F-BF4C-AFBF6314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C5A-4E04-4F7E-A76B-BF75C58B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D8B9-4582-467F-ACA7-519AD064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351-DA87-40A9-9DE5-C3CD6CE2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DF02-4CC0-452E-AA9F-302FDF0A0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Goals for Toda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alyze and Evaluate Plan for Frontloading Activity, Get Feedback and Suggestions for Essential Qs and Culminating Performance Task Ide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necting to Our Experience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ship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earning is Situational:  “Any human activity—whether internal or external—is in fact allowed, encouraged, shaped and constrained by the particular situation in which it occurs” (Activity Theo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w Would You Characterize Your Internship Situation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d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or teac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Control” and “Can’t Control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aring Ou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1397160"/>
          <a:ext cx="6096240" cy="23778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46" name="TextBox 2"/>
          <p:cNvSpPr/>
          <p:nvPr/>
        </p:nvSpPr>
        <p:spPr>
          <a:xfrm>
            <a:off x="1600200" y="762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ing Where We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aluating Frontloading Activity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 She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Part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ain plan for frontloading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 Check Sheet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instorm ideas/possibilities for impr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afting Assess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ing for the Gallery Walk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the Following on Your Post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 Essential Question(s) at this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ption of Culminating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estions/Specific Feedback You Are Look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lery Wal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you consider the posters, use the following concepts to guide your feedback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 Facets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Importance of Transf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nowledge and Skills Necessary for Completing Tas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uthenti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red Understanding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gration of Reading, Writing and Langu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idence of Understa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eptual and Procedural Go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xt-to-Text, Text-to-Self, Text-to-World Conne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22:43:42Z</dcterms:created>
  <dc:creator>Phil Bear</dc:creator>
  <dc:description/>
  <dc:language>en-US</dc:language>
  <cp:lastModifiedBy>Phil Bear</cp:lastModifiedBy>
  <dcterms:modified xsi:type="dcterms:W3CDTF">2011-02-21T23:14:00Z</dcterms:modified>
  <cp:revision>4</cp:revision>
  <dc:subject/>
  <dc:title>Our Goals for Today: Analyze and Evaluate Plan for Frontloading Activity, Get Feedback and Suggestions for Essential Qs and Culminating Performance Task Ideas</dc:title>
</cp:coreProperties>
</file>